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F05-58B2-41D9-832A-F8A96ADC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228-F53F-49EC-B69F-8A29CDAB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132-6DEF-4BC9-828C-A6E27B93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7CC-134A-4022-ADEF-ED696341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ECC-F088-4253-AD13-7EEC7260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141-CADF-460B-9B60-19D0179C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990-9897-4A5C-9892-B06DA7B9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65D-DAB8-4CA9-ADC7-FF9B0FE4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11D-50BD-4CE2-AF17-08C1114F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5D0-1959-478E-92E4-4C4BF0BF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144-E197-4D7F-AB0F-9673AAD8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DC2-1188-4165-AA54-A288276E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1C08-647A-40C1-A078-1CF7D237F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ShockwaveFlash2"/>
          <p:cNvGraphicFramePr/>
          <p:nvPr/>
        </p:nvGraphicFramePr>
        <p:xfrm>
          <a:off x="2286000" y="838080"/>
          <a:ext cx="53341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838080"/>
                    <a:ext cx="5334120" cy="4724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0:47:26Z</dcterms:created>
  <dc:creator>Timothy A. Loginov</dc:creator>
  <dc:description/>
  <dc:language>en-US</dc:language>
  <cp:lastModifiedBy>Timothy A. Loginov</cp:lastModifiedBy>
  <dcterms:modified xsi:type="dcterms:W3CDTF">2007-06-07T02:01:15Z</dcterms:modified>
  <cp:revision>6</cp:revision>
  <dc:subject/>
  <dc:title>Slide 1</dc:title>
</cp:coreProperties>
</file>